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C39-81F1-4CBC-9C73-A5089AA0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CF2-1314-4DF7-8F88-C581E854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2C4F-0CA2-43AD-86D7-E56BF269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475-4B2F-4A95-B20D-81E22744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3C3B-6894-46C5-94CF-C58AE8DA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AFFD-E7BE-4EB2-8A76-B827432A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F091-CE86-49AD-B677-BCA8C9DC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5E8C-1A27-4701-9015-79E9957F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B8E8-09AF-45D2-A480-AAFC7244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AE97-6E85-4F80-802B-1B43DEE6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405D-E5C9-47E0-9823-BE1008EE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A48-2262-4F7E-9360-AC6C28A9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4A2A-C242-4252-B385-07A95A28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89A2-4C92-4B63-BE9E-F4C7CC49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D244-797B-438A-BDC3-A9654E73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D1CB-EA86-409D-BF78-E13E8BDD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F2AC-2296-4952-94E5-4620DEEF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9CE-581C-404A-BF24-25908AD8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0246-71EE-429E-8596-ADEA5798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CBE4-8FA5-45C8-9C75-2B4FCD90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DA2-0BEC-4A92-A631-3B07CF6D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20C0-0F1D-4A99-BF88-84FD43D8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58A-B915-408C-92F1-9F1B2E4B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B8A-9DB8-4C9E-A46D-80C95685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AE87-CA5E-4654-9D42-8EFE04698A2E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2AFF-8F84-430F-834F-E2CC1314209D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6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" Target="slide8.xml"/><Relationship Id="rId7" Type="http://schemas.openxmlformats.org/officeDocument/2006/relationships/image" Target="../media/image5.png"/><Relationship Id="rId8" Type="http://schemas.openxmlformats.org/officeDocument/2006/relationships/slide" Target="slide11.xml"/><Relationship Id="rId9" Type="http://schemas.openxmlformats.org/officeDocument/2006/relationships/image" Target="../media/image6.png"/><Relationship Id="rId10" Type="http://schemas.openxmlformats.org/officeDocument/2006/relationships/slide" Target="slide10.xml"/><Relationship Id="rId11" Type="http://schemas.openxmlformats.org/officeDocument/2006/relationships/image" Target="../media/image7.png"/><Relationship Id="rId12" Type="http://schemas.openxmlformats.org/officeDocument/2006/relationships/slide" Target="slide7.xm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324000" y="1700280"/>
            <a:ext cx="7921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СИСТЕМА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 </a:t>
            </a: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ДВОЙНИЧЕСТВА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видригайл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На нём проверяется «арифметическая» теория Раскольникова: на счету Свидригайлова много добрых дел, но они не могут оправдать минувшего злодеяния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Добрые дела не воскресают его больную душу: совесть высвобождается и вырывается наружу, порождая кошмары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9" name="Содержимое 7" descr="Внутренний мир Свидригайлова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500800" y="785880"/>
            <a:ext cx="2571480" cy="3429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5500800" y="4357800"/>
            <a:ext cx="27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Внутренний мир Свидригайлова»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71" name="Управляющая кнопка: домой 6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72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оня Мармеладо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уть Сони – это путь покаяния, возвращение к родной земле, которую он оскверни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ротягивает ему кипарисовый крестик – символ возвращения к вере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6" name="Содержимое 7" descr="Соня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572080" y="857160"/>
            <a:ext cx="2486160" cy="34290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8"/>
          <p:cNvSpPr/>
          <p:nvPr/>
        </p:nvSpPr>
        <p:spPr>
          <a:xfrm>
            <a:off x="5500800" y="435780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Соня» 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78" name="Управляющая кнопка: далее 7"/>
          <p:cNvGrpSpPr/>
          <p:nvPr/>
        </p:nvGrpSpPr>
        <p:grpSpPr>
          <a:xfrm>
            <a:off x="7943760" y="5535720"/>
            <a:ext cx="682560" cy="652320"/>
            <a:chOff x="7943760" y="5535720"/>
            <a:chExt cx="682560" cy="652320"/>
          </a:xfrm>
        </p:grpSpPr>
        <p:pic>
          <p:nvPicPr>
            <p:cNvPr id="179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943760" y="5535720"/>
              <a:ext cx="6825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8001000" y="5572080"/>
              <a:ext cx="5716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видригайлов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Это идеал Раскольникова – он «переступил», но без нравственных мучений (сначал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амоубийство – это один из жизненных итогов (вариант для Раскольников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видригайлов говорит: «Мы одного поля ягоды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оня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Не может перешагнуть через совесть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Собирается с ней вместе идти по одной дороге: «Мы вместе прокляты, вместе пойдём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С Соней Раскольников собирается идти по одной дороге: «Мы вместе прокляты, вместе и пойдём»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84" name="Управляющая кнопка: далее 5"/>
          <p:cNvGrpSpPr/>
          <p:nvPr/>
        </p:nvGrpSpPr>
        <p:grpSpPr>
          <a:xfrm>
            <a:off x="7943760" y="5535720"/>
            <a:ext cx="682560" cy="652320"/>
            <a:chOff x="7943760" y="5535720"/>
            <a:chExt cx="682560" cy="652320"/>
          </a:xfrm>
        </p:grpSpPr>
        <p:pic>
          <p:nvPicPr>
            <p:cNvPr id="185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43760" y="5535720"/>
              <a:ext cx="6825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001000" y="5572080"/>
              <a:ext cx="5716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56360" y="463680"/>
            <a:ext cx="1128600" cy="1620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ЛУЖИН"/>
          <p:cNvPicPr/>
          <p:nvPr/>
        </p:nvPicPr>
        <p:blipFill>
          <a:blip r:embed="rId2"/>
          <a:stretch/>
        </p:blipFill>
        <p:spPr>
          <a:xfrm>
            <a:off x="298440" y="328680"/>
            <a:ext cx="1682640" cy="4645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ПОРФЕРИЙ ПЕТРОВИЧ"/>
          <p:cNvPicPr/>
          <p:nvPr/>
        </p:nvPicPr>
        <p:blipFill>
          <a:blip r:embed="rId3"/>
          <a:stretch/>
        </p:blipFill>
        <p:spPr>
          <a:xfrm>
            <a:off x="7620120" y="2206800"/>
            <a:ext cx="1341360" cy="3340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СОНЯ"/>
          <p:cNvPicPr/>
          <p:nvPr/>
        </p:nvPicPr>
        <p:blipFill>
          <a:blip r:embed="rId4"/>
          <a:stretch/>
        </p:blipFill>
        <p:spPr>
          <a:xfrm>
            <a:off x="7643880" y="3998880"/>
            <a:ext cx="1360440" cy="4071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СВИДРИГАЙЛОВ"/>
          <p:cNvPicPr/>
          <p:nvPr/>
        </p:nvPicPr>
        <p:blipFill>
          <a:blip r:embed="rId5"/>
          <a:stretch/>
        </p:blipFill>
        <p:spPr>
          <a:xfrm>
            <a:off x="371520" y="3998880"/>
            <a:ext cx="1768320" cy="46450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3708360" y="4437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1857240" y="4287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6227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7128000" y="15717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фирий Петрович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7343640" y="609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755640" y="299736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98" name="AutoShape 14"/>
          <p:cNvGrpSpPr/>
          <p:nvPr/>
        </p:nvGrpSpPr>
        <p:grpSpPr>
          <a:xfrm>
            <a:off x="414360" y="2822400"/>
            <a:ext cx="2103480" cy="609840"/>
            <a:chOff x="414360" y="2822400"/>
            <a:chExt cx="2103480" cy="609840"/>
          </a:xfrm>
        </p:grpSpPr>
        <p:pic>
          <p:nvPicPr>
            <p:cNvPr id="199" name="AutoShape 14" descr=""/>
            <p:cNvPicPr/>
            <p:nvPr/>
          </p:nvPicPr>
          <p:blipFill>
            <a:blip r:embed="rId6"/>
            <a:stretch/>
          </p:blipFill>
          <p:spPr>
            <a:xfrm>
              <a:off x="414360" y="2822400"/>
              <a:ext cx="2103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23800" y="2881440"/>
              <a:ext cx="1897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Лебезятников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01" name="Text Box 16"/>
          <p:cNvSpPr/>
          <p:nvPr/>
        </p:nvSpPr>
        <p:spPr>
          <a:xfrm>
            <a:off x="179280" y="5877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202" name="Прямая со стрелкой 26"/>
          <p:cNvCxnSpPr/>
          <p:nvPr/>
        </p:nvCxnSpPr>
        <p:spPr>
          <a:xfrm flipH="1" flipV="1">
            <a:off x="1958760" y="1485720"/>
            <a:ext cx="1821600" cy="157392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3" name="Прямая со стрелкой 27"/>
          <p:cNvCxnSpPr/>
          <p:nvPr/>
        </p:nvCxnSpPr>
        <p:spPr>
          <a:xfrm flipV="1">
            <a:off x="5697000" y="1285560"/>
            <a:ext cx="1018440" cy="177408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4" name="Прямая со стрелкой 30"/>
          <p:cNvCxnSpPr>
            <a:endCxn id="199" idx="3"/>
          </p:cNvCxnSpPr>
          <p:nvPr/>
        </p:nvCxnSpPr>
        <p:spPr>
          <a:xfrm flipH="1">
            <a:off x="2444040" y="3059280"/>
            <a:ext cx="1335960" cy="4968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5" name="Прямая со стрелкой 33"/>
          <p:cNvCxnSpPr/>
          <p:nvPr/>
        </p:nvCxnSpPr>
        <p:spPr>
          <a:xfrm flipH="1">
            <a:off x="2112120" y="3058200"/>
            <a:ext cx="1667880" cy="209736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6" name="Прямая со стрелкой 36"/>
          <p:cNvCxnSpPr/>
          <p:nvPr/>
        </p:nvCxnSpPr>
        <p:spPr>
          <a:xfrm flipV="1">
            <a:off x="5697000" y="3039480"/>
            <a:ext cx="1947240" cy="1980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7" name="Прямая со стрелкой 39"/>
          <p:cNvCxnSpPr/>
          <p:nvPr/>
        </p:nvCxnSpPr>
        <p:spPr>
          <a:xfrm>
            <a:off x="5697000" y="3059280"/>
            <a:ext cx="1971000" cy="195480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8" name="Прямая со стрелкой 43"/>
          <p:cNvCxnSpPr/>
          <p:nvPr/>
        </p:nvCxnSpPr>
        <p:spPr>
          <a:xfrm>
            <a:off x="1928520" y="850680"/>
            <a:ext cx="4250520" cy="13320"/>
          </a:xfrm>
          <a:prstGeom prst="straightConnector1">
            <a:avLst/>
          </a:prstGeom>
          <a:ln w="57240">
            <a:solidFill>
              <a:srgbClr val="9933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9" name="Прямая со стрелкой 45"/>
          <p:cNvCxnSpPr>
            <a:stCxn id="199" idx="3"/>
          </p:cNvCxnSpPr>
          <p:nvPr/>
        </p:nvCxnSpPr>
        <p:spPr>
          <a:xfrm flipV="1">
            <a:off x="2444760" y="3039480"/>
            <a:ext cx="5199840" cy="68760"/>
          </a:xfrm>
          <a:prstGeom prst="straightConnector1">
            <a:avLst/>
          </a:prstGeom>
          <a:ln w="57240">
            <a:solidFill>
              <a:srgbClr val="9933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0" name="Прямая со стрелкой 48"/>
          <p:cNvCxnSpPr/>
          <p:nvPr/>
        </p:nvCxnSpPr>
        <p:spPr>
          <a:xfrm flipV="1">
            <a:off x="2143080" y="5012640"/>
            <a:ext cx="5525280" cy="59400"/>
          </a:xfrm>
          <a:prstGeom prst="straightConnector1">
            <a:avLst/>
          </a:prstGeom>
          <a:ln w="57240">
            <a:solidFill>
              <a:srgbClr val="9933f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11" name="Picture 4" descr="расскольников"/>
          <p:cNvPicPr/>
          <p:nvPr/>
        </p:nvPicPr>
        <p:blipFill>
          <a:blip r:embed="rId7"/>
          <a:stretch/>
        </p:blipFill>
        <p:spPr>
          <a:xfrm>
            <a:off x="3754440" y="1695600"/>
            <a:ext cx="1969920" cy="5473440"/>
          </a:xfrm>
          <a:prstGeom prst="rect">
            <a:avLst/>
          </a:prstGeom>
          <a:ln w="0">
            <a:noFill/>
          </a:ln>
        </p:spPr>
      </p:pic>
      <p:grpSp>
        <p:nvGrpSpPr>
          <p:cNvPr id="212" name="Управляющая кнопка: далее 54"/>
          <p:cNvGrpSpPr/>
          <p:nvPr/>
        </p:nvGrpSpPr>
        <p:grpSpPr>
          <a:xfrm>
            <a:off x="4438800" y="5748480"/>
            <a:ext cx="687240" cy="652320"/>
            <a:chOff x="4438800" y="5748480"/>
            <a:chExt cx="687240" cy="652320"/>
          </a:xfrm>
        </p:grpSpPr>
        <p:pic>
          <p:nvPicPr>
            <p:cNvPr id="213" name="Управляющая кнопка: далее 54" descr="">
              <a:hlinkClick r:id="" action="ppaction://hlinkshowjump?jump=nextslide"/>
            </p:cNvPr>
            <p:cNvPicPr/>
            <p:nvPr/>
          </p:nvPicPr>
          <p:blipFill>
            <a:blip r:embed="rId8"/>
            <a:stretch/>
          </p:blipFill>
          <p:spPr>
            <a:xfrm>
              <a:off x="4438800" y="5748480"/>
              <a:ext cx="6872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500720" y="5786280"/>
              <a:ext cx="57132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расскольников"/>
          <p:cNvPicPr/>
          <p:nvPr/>
        </p:nvPicPr>
        <p:blipFill>
          <a:blip r:embed="rId1"/>
          <a:stretch/>
        </p:blipFill>
        <p:spPr>
          <a:xfrm>
            <a:off x="3541680" y="3786120"/>
            <a:ext cx="1963800" cy="546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ЛУЖИН"/>
          <p:cNvPicPr/>
          <p:nvPr/>
        </p:nvPicPr>
        <p:blipFill>
          <a:blip r:embed="rId2"/>
          <a:stretch/>
        </p:blipFill>
        <p:spPr>
          <a:xfrm>
            <a:off x="225360" y="3852720"/>
            <a:ext cx="1682640" cy="4645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3"/>
          <a:stretch/>
        </p:blipFill>
        <p:spPr>
          <a:xfrm>
            <a:off x="6278400" y="3492360"/>
            <a:ext cx="2713320" cy="46944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4"/>
          <p:cNvSpPr/>
          <p:nvPr/>
        </p:nvSpPr>
        <p:spPr>
          <a:xfrm>
            <a:off x="324000" y="1700280"/>
            <a:ext cx="2592360" cy="1441440"/>
          </a:xfrm>
          <a:prstGeom prst="wedgeRoundRectCallout">
            <a:avLst>
              <a:gd name="adj1" fmla="val -40138"/>
              <a:gd name="adj2" fmla="val 93393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Рациональный эгоиз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AutoShape 16"/>
          <p:cNvSpPr/>
          <p:nvPr/>
        </p:nvSpPr>
        <p:spPr>
          <a:xfrm>
            <a:off x="2143080" y="2643120"/>
            <a:ext cx="1727280" cy="1079640"/>
          </a:xfrm>
          <a:prstGeom prst="wedgeRoundRectCallout">
            <a:avLst>
              <a:gd name="adj1" fmla="val 37777"/>
              <a:gd name="adj2" fmla="val 110587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умный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эгоиз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AutoShape 17"/>
          <p:cNvSpPr/>
          <p:nvPr/>
        </p:nvSpPr>
        <p:spPr>
          <a:xfrm>
            <a:off x="6516720" y="2133720"/>
            <a:ext cx="2376360" cy="936360"/>
          </a:xfrm>
          <a:prstGeom prst="wedgeRoundRectCallout">
            <a:avLst>
              <a:gd name="adj1" fmla="val -41851"/>
              <a:gd name="adj2" fmla="val 86949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Альтруиз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AutoShape 18"/>
          <p:cNvSpPr/>
          <p:nvPr/>
        </p:nvSpPr>
        <p:spPr>
          <a:xfrm>
            <a:off x="4643280" y="2428920"/>
            <a:ext cx="1657440" cy="936720"/>
          </a:xfrm>
          <a:prstGeom prst="wedgeRoundRectCallout">
            <a:avLst>
              <a:gd name="adj1" fmla="val -49384"/>
              <a:gd name="adj2" fmla="val 90601"/>
              <a:gd name="adj3" fmla="val 16667"/>
            </a:avLst>
          </a:prstGeom>
          <a:solidFill>
            <a:srgbClr val="ff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иничный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льтруиз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ужин – Раскольников – Разумихин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тавятся вопросы, связанные с деятельностью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5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безятников – Раскольников – Порфирий Петрович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Рассматриваются социальные пробл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5" descr="расскольников"/>
          <p:cNvPicPr/>
          <p:nvPr/>
        </p:nvPicPr>
        <p:blipFill>
          <a:blip r:embed="rId1"/>
          <a:stretch/>
        </p:blipFill>
        <p:spPr>
          <a:xfrm>
            <a:off x="3468600" y="3565440"/>
            <a:ext cx="1968480" cy="54752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ПОРФЕРИЙ ПЕТРОВИЧ"/>
          <p:cNvPicPr/>
          <p:nvPr/>
        </p:nvPicPr>
        <p:blipFill>
          <a:blip r:embed="rId2"/>
          <a:stretch/>
        </p:blipFill>
        <p:spPr>
          <a:xfrm>
            <a:off x="6778800" y="3786120"/>
            <a:ext cx="1828800" cy="455940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7"/>
          <p:cNvSpPr/>
          <p:nvPr/>
        </p:nvSpPr>
        <p:spPr>
          <a:xfrm>
            <a:off x="250920" y="3284640"/>
            <a:ext cx="2374920" cy="1368360"/>
          </a:xfrm>
          <a:prstGeom prst="wedgeRoundRectCallout">
            <a:avLst>
              <a:gd name="adj1" fmla="val 333"/>
              <a:gd name="adj2" fmla="val 160671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Отрицание нравственных и государственных нор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1928880" y="1428840"/>
            <a:ext cx="2232000" cy="1224000"/>
          </a:xfrm>
          <a:prstGeom prst="wedgeRoundRectCallout">
            <a:avLst>
              <a:gd name="adj1" fmla="val 24851"/>
              <a:gd name="adj2" fmla="val 126296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раво на протест человека необыкновенного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AutoShape 9"/>
          <p:cNvSpPr/>
          <p:nvPr/>
        </p:nvSpPr>
        <p:spPr>
          <a:xfrm>
            <a:off x="4786200" y="2143080"/>
            <a:ext cx="1871640" cy="1008000"/>
          </a:xfrm>
          <a:prstGeom prst="wedgeRoundRectCallout">
            <a:avLst>
              <a:gd name="adj1" fmla="val -61875"/>
              <a:gd name="adj2" fmla="val 86106"/>
              <a:gd name="adj3" fmla="val 16667"/>
            </a:avLst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виновение «твари дрожащей»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6500880" y="1214280"/>
            <a:ext cx="2016000" cy="1079640"/>
          </a:xfrm>
          <a:prstGeom prst="wedgeRoundRectCallout">
            <a:avLst>
              <a:gd name="adj1" fmla="val 32597"/>
              <a:gd name="adj2" fmla="val 182500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Защита государства и морали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30" name="AutoShape 20"/>
          <p:cNvGrpSpPr/>
          <p:nvPr/>
        </p:nvGrpSpPr>
        <p:grpSpPr>
          <a:xfrm>
            <a:off x="487440" y="5894280"/>
            <a:ext cx="2097000" cy="609840"/>
            <a:chOff x="487440" y="5894280"/>
            <a:chExt cx="2097000" cy="609840"/>
          </a:xfrm>
        </p:grpSpPr>
        <p:pic>
          <p:nvPicPr>
            <p:cNvPr id="231" name="AutoShape 20" descr=""/>
            <p:cNvPicPr/>
            <p:nvPr/>
          </p:nvPicPr>
          <p:blipFill>
            <a:blip r:embed="rId3"/>
            <a:stretch/>
          </p:blipFill>
          <p:spPr>
            <a:xfrm>
              <a:off x="487440" y="5894280"/>
              <a:ext cx="209700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5440" y="5952960"/>
              <a:ext cx="18968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Лебезятников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идригайлов – Раскольников – Соня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ассматриваются философские, общечеловеческие пробл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5" descr="СВИДРИГАЙЛОВ"/>
          <p:cNvPicPr/>
          <p:nvPr/>
        </p:nvPicPr>
        <p:blipFill>
          <a:blip r:embed="rId1"/>
          <a:stretch/>
        </p:blipFill>
        <p:spPr>
          <a:xfrm>
            <a:off x="371520" y="3998880"/>
            <a:ext cx="1768320" cy="4645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СОНЯ"/>
          <p:cNvPicPr/>
          <p:nvPr/>
        </p:nvPicPr>
        <p:blipFill>
          <a:blip r:embed="rId2"/>
          <a:stretch/>
        </p:blipFill>
        <p:spPr>
          <a:xfrm>
            <a:off x="7497720" y="4071960"/>
            <a:ext cx="1365120" cy="4060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расскольников"/>
          <p:cNvPicPr/>
          <p:nvPr/>
        </p:nvPicPr>
        <p:blipFill>
          <a:blip r:embed="rId3"/>
          <a:stretch/>
        </p:blipFill>
        <p:spPr>
          <a:xfrm>
            <a:off x="3754440" y="1695600"/>
            <a:ext cx="1969920" cy="547344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8"/>
          <p:cNvSpPr/>
          <p:nvPr/>
        </p:nvSpPr>
        <p:spPr>
          <a:xfrm>
            <a:off x="395280" y="2421000"/>
            <a:ext cx="2376360" cy="1152360"/>
          </a:xfrm>
          <a:prstGeom prst="wedgeRoundRectCallout">
            <a:avLst>
              <a:gd name="adj1" fmla="val -45259"/>
              <a:gd name="adj2" fmla="val 86226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Бездеятельность, индивидуализм, культ сильной личности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2268360" y="5300640"/>
            <a:ext cx="2232360" cy="1008000"/>
          </a:xfrm>
          <a:prstGeom prst="wedgeRoundRectCallout">
            <a:avLst>
              <a:gd name="adj1" fmla="val 24962"/>
              <a:gd name="adj2" fmla="val -139606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Безверие, индивидуализм, бунт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4643280" y="5516640"/>
            <a:ext cx="2303640" cy="936720"/>
          </a:xfrm>
          <a:prstGeom prst="wedgeRoundRectCallout">
            <a:avLst>
              <a:gd name="adj1" fmla="val -69643"/>
              <a:gd name="adj2" fmla="val -148134"/>
              <a:gd name="adj3" fmla="val 16667"/>
            </a:avLst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иск веры, мессианство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6659640" y="2060640"/>
            <a:ext cx="2232000" cy="1224000"/>
          </a:xfrm>
          <a:prstGeom prst="wedgeRoundRectCallout">
            <a:avLst>
              <a:gd name="adj1" fmla="val 40398"/>
              <a:gd name="adj2" fmla="val 106939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Глубокая вера, христианское смирение, человеколюбие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Diagram 6"/>
          <p:cNvGrpSpPr/>
          <p:nvPr/>
        </p:nvGrpSpPr>
        <p:grpSpPr>
          <a:xfrm>
            <a:off x="2244600" y="482760"/>
            <a:ext cx="4773600" cy="4114800"/>
            <a:chOff x="2244600" y="482760"/>
            <a:chExt cx="4773600" cy="4114800"/>
          </a:xfrm>
        </p:grpSpPr>
        <p:sp>
          <p:nvSpPr>
            <p:cNvPr id="242" name="_s1028"/>
            <p:cNvSpPr/>
            <p:nvPr/>
          </p:nvSpPr>
          <p:spPr>
            <a:xfrm>
              <a:off x="2244600" y="1635120"/>
              <a:ext cx="2962440" cy="2962440"/>
            </a:xfrm>
            <a:prstGeom prst="donut">
              <a:avLst>
                <a:gd name="adj" fmla="val 16666"/>
              </a:avLst>
            </a:prstGeom>
            <a:solidFill>
              <a:srgbClr val="ff66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3" name="_s1029"/>
            <p:cNvSpPr/>
            <p:nvPr/>
          </p:nvSpPr>
          <p:spPr>
            <a:xfrm>
              <a:off x="6227640" y="1797120"/>
              <a:ext cx="790560" cy="65700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Обществен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4" name="_s1030"/>
            <p:cNvSpPr/>
            <p:nvPr/>
          </p:nvSpPr>
          <p:spPr>
            <a:xfrm>
              <a:off x="2738520" y="2128680"/>
              <a:ext cx="1974600" cy="197496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5" name="_s1031"/>
            <p:cNvSpPr/>
            <p:nvPr/>
          </p:nvSpPr>
          <p:spPr>
            <a:xfrm>
              <a:off x="6227640" y="1139760"/>
              <a:ext cx="790560" cy="65736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Социаль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6" name="_s1032"/>
            <p:cNvSpPr/>
            <p:nvPr/>
          </p:nvSpPr>
          <p:spPr>
            <a:xfrm>
              <a:off x="3232080" y="2622600"/>
              <a:ext cx="987480" cy="98748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7" name="_s1033"/>
            <p:cNvSpPr/>
            <p:nvPr/>
          </p:nvSpPr>
          <p:spPr>
            <a:xfrm>
              <a:off x="6227640" y="482760"/>
              <a:ext cx="790560" cy="65700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Личност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48" name="Line 14"/>
          <p:cNvSpPr/>
          <p:nvPr/>
        </p:nvSpPr>
        <p:spPr>
          <a:xfrm>
            <a:off x="3708360" y="1557360"/>
            <a:ext cx="73080" cy="302400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2268360" y="3068640"/>
            <a:ext cx="2951280" cy="730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2627280" y="2060640"/>
            <a:ext cx="2160720" cy="20890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Line 17"/>
          <p:cNvSpPr/>
          <p:nvPr/>
        </p:nvSpPr>
        <p:spPr>
          <a:xfrm flipV="1">
            <a:off x="2627280" y="2133360"/>
            <a:ext cx="2232000" cy="194292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2700360" y="2852640"/>
            <a:ext cx="2160720" cy="368280"/>
          </a:xfrm>
          <a:prstGeom prst="rect">
            <a:avLst/>
          </a:prstGeom>
          <a:solidFill>
            <a:srgbClr val="9933ff"/>
          </a:solidFill>
          <a:ln w="38160">
            <a:solidFill>
              <a:srgbClr val="f8f8f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3" name="AutoShape 19"/>
          <p:cNvSpPr/>
          <p:nvPr/>
        </p:nvSpPr>
        <p:spPr>
          <a:xfrm>
            <a:off x="6156360" y="3500280"/>
            <a:ext cx="2089080" cy="576360"/>
          </a:xfrm>
          <a:prstGeom prst="wedgeRoundRectCallout">
            <a:avLst>
              <a:gd name="adj1" fmla="val -119226"/>
              <a:gd name="adj2" fmla="val -46967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AutoShape 21"/>
          <p:cNvSpPr/>
          <p:nvPr/>
        </p:nvSpPr>
        <p:spPr>
          <a:xfrm>
            <a:off x="6659640" y="4292640"/>
            <a:ext cx="1800000" cy="647640"/>
          </a:xfrm>
          <a:prstGeom prst="wedgeRoundRectCallout">
            <a:avLst>
              <a:gd name="adj1" fmla="val -194708"/>
              <a:gd name="adj2" fmla="val -142157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Порфири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AutoShape 23"/>
          <p:cNvSpPr/>
          <p:nvPr/>
        </p:nvSpPr>
        <p:spPr>
          <a:xfrm>
            <a:off x="4716360" y="4941720"/>
            <a:ext cx="1584360" cy="576360"/>
          </a:xfrm>
          <a:prstGeom prst="wedgeRoundRectCallout">
            <a:avLst>
              <a:gd name="adj1" fmla="val -109819"/>
              <a:gd name="adj2" fmla="val -309777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AutoShape 24"/>
          <p:cNvSpPr/>
          <p:nvPr/>
        </p:nvSpPr>
        <p:spPr>
          <a:xfrm>
            <a:off x="1476360" y="4508640"/>
            <a:ext cx="1513080" cy="576000"/>
          </a:xfrm>
          <a:prstGeom prst="wedgeRoundRectCallout">
            <a:avLst>
              <a:gd name="adj1" fmla="val 83685"/>
              <a:gd name="adj2" fmla="val -249722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AutoShape 25"/>
          <p:cNvSpPr/>
          <p:nvPr/>
        </p:nvSpPr>
        <p:spPr>
          <a:xfrm>
            <a:off x="179280" y="1844640"/>
            <a:ext cx="2089080" cy="574560"/>
          </a:xfrm>
          <a:prstGeom prst="wedgeRoundRectCallout">
            <a:avLst>
              <a:gd name="adj1" fmla="val 88375"/>
              <a:gd name="adj2" fmla="val 101106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AutoShape 26"/>
          <p:cNvSpPr/>
          <p:nvPr/>
        </p:nvSpPr>
        <p:spPr>
          <a:xfrm>
            <a:off x="971640" y="549360"/>
            <a:ext cx="2087640" cy="576000"/>
          </a:xfrm>
          <a:prstGeom prst="wedgeRoundRectCallout">
            <a:avLst>
              <a:gd name="adj1" fmla="val 57074"/>
              <a:gd name="adj2" fmla="val 214185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Лебезят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77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9" dur="770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1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3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9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1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3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0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2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4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1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3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3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 Раскольникове всего «слишком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468360" y="1197000"/>
            <a:ext cx="2087640" cy="100800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Протест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Лебезятников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6156360" y="907920"/>
            <a:ext cx="2376360" cy="115272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Бунт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AutoShape 11"/>
          <p:cNvSpPr/>
          <p:nvPr/>
        </p:nvSpPr>
        <p:spPr>
          <a:xfrm>
            <a:off x="571680" y="2500200"/>
            <a:ext cx="2232000" cy="129564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Единичное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добро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Разумихин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AutoShape 13"/>
          <p:cNvSpPr/>
          <p:nvPr/>
        </p:nvSpPr>
        <p:spPr>
          <a:xfrm>
            <a:off x="6300720" y="2349360"/>
            <a:ext cx="2303640" cy="144000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Вселенские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масштабы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добр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AutoShape 15"/>
          <p:cNvSpPr/>
          <p:nvPr/>
        </p:nvSpPr>
        <p:spPr>
          <a:xfrm>
            <a:off x="642960" y="4143240"/>
            <a:ext cx="2448000" cy="136872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Арифметика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Лужин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AutoShape 17"/>
          <p:cNvSpPr/>
          <p:nvPr/>
        </p:nvSpPr>
        <p:spPr>
          <a:xfrm>
            <a:off x="6286680" y="4214880"/>
            <a:ext cx="2304720" cy="122400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Теория,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толкающая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к топору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266" name="Прямая со стрелкой 18"/>
          <p:cNvCxnSpPr>
            <a:stCxn id="260" idx="3"/>
            <a:endCxn id="261" idx="1"/>
          </p:cNvCxnSpPr>
          <p:nvPr/>
        </p:nvCxnSpPr>
        <p:spPr>
          <a:xfrm flipV="1">
            <a:off x="2555640" y="1483920"/>
            <a:ext cx="3601080" cy="218160"/>
          </a:xfrm>
          <a:prstGeom prst="straightConnector1">
            <a:avLst/>
          </a:prstGeom>
          <a:ln w="38160">
            <a:solidFill>
              <a:srgbClr val="d4d4d4"/>
            </a:solidFill>
            <a:miter/>
            <a:tailEnd len="med" type="triangle" w="med"/>
          </a:ln>
        </p:spPr>
      </p:cxnSp>
      <p:cxnSp>
        <p:nvCxnSpPr>
          <p:cNvPr id="267" name="Прямая со стрелкой 19"/>
          <p:cNvCxnSpPr/>
          <p:nvPr/>
        </p:nvCxnSpPr>
        <p:spPr>
          <a:xfrm flipV="1">
            <a:off x="2785680" y="2928600"/>
            <a:ext cx="3601080" cy="216720"/>
          </a:xfrm>
          <a:prstGeom prst="straightConnector1">
            <a:avLst/>
          </a:prstGeom>
          <a:ln w="38160">
            <a:solidFill>
              <a:srgbClr val="d4d4d4"/>
            </a:solidFill>
            <a:miter/>
            <a:tailEnd len="med" type="triangle" w="med"/>
          </a:ln>
        </p:spPr>
      </p:cxnSp>
      <p:cxnSp>
        <p:nvCxnSpPr>
          <p:cNvPr id="268" name="Прямая со стрелкой 20"/>
          <p:cNvCxnSpPr>
            <a:endCxn id="265" idx="1"/>
          </p:cNvCxnSpPr>
          <p:nvPr/>
        </p:nvCxnSpPr>
        <p:spPr>
          <a:xfrm flipV="1">
            <a:off x="3143160" y="4827600"/>
            <a:ext cx="3144240" cy="30600"/>
          </a:xfrm>
          <a:prstGeom prst="straightConnector1">
            <a:avLst/>
          </a:prstGeom>
          <a:ln w="38160">
            <a:solidFill>
              <a:srgbClr val="d4d4d4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8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2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4000"/>
                            </p:stCondLst>
                            <p:childTnLst>
                              <p:par>
                                <p:cTn id="8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0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2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4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6000"/>
                            </p:stCondLst>
                            <p:childTnLst>
                              <p:par>
                                <p:cTn id="8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6500"/>
                            </p:stCondLst>
                            <p:childTnLst>
                              <p:par>
                                <p:cTn id="8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7000"/>
                            </p:stCondLst>
                            <p:childTnLst>
                              <p:par>
                                <p:cTn id="8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2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4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6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лифонический рома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ahoma"/>
              </a:rPr>
              <a:t>Достоевский – создатель полифонического романа, по выражению Бахтина. Полифония – многоголосица. Его герои как бы вступают в перекличку друг с другом. Автор окружает Раскольникова людьми, варьирующими те или иные мысли главного героя. При этом отрицательные элементы его теории отражают «двойники», а положительные – «антиподы»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3" name="Содержимое 6" descr="Полифония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822920" y="1285920"/>
            <a:ext cx="3178080" cy="42861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4786200" y="564372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Полифония» 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467320" y="444600"/>
            <a:ext cx="1311480" cy="106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ЛУЖИН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6640" y="262080"/>
            <a:ext cx="2109960" cy="2652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расскольников"/>
          <p:cNvPicPr/>
          <p:nvPr/>
        </p:nvPicPr>
        <p:blipFill>
          <a:blip r:embed="rId5"/>
          <a:stretch/>
        </p:blipFill>
        <p:spPr>
          <a:xfrm>
            <a:off x="3657600" y="1633680"/>
            <a:ext cx="2103480" cy="2901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ПОРФЕРИЙ ПЕТРОВИЧ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765840" y="1407960"/>
            <a:ext cx="1749600" cy="2005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СОНЯ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156360" y="3780000"/>
            <a:ext cx="1963800" cy="2401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СВИДРИГАЙЛОВ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90640" y="3760920"/>
            <a:ext cx="2260440" cy="2700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4"/>
          <p:cNvSpPr/>
          <p:nvPr/>
        </p:nvSpPr>
        <p:spPr>
          <a:xfrm>
            <a:off x="3708360" y="4437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2428920" y="5000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6715080" y="5000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7308720" y="3068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фирий Петрович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714384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755640" y="299736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27" name="AutoShape 20"/>
          <p:cNvGrpSpPr/>
          <p:nvPr/>
        </p:nvGrpSpPr>
        <p:grpSpPr>
          <a:xfrm>
            <a:off x="480960" y="2962440"/>
            <a:ext cx="2060640" cy="609480"/>
            <a:chOff x="480960" y="2962440"/>
            <a:chExt cx="2060640" cy="609480"/>
          </a:xfrm>
        </p:grpSpPr>
        <p:pic>
          <p:nvPicPr>
            <p:cNvPr id="128" name="AutoShap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480960" y="2962440"/>
              <a:ext cx="2060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63400" y="3021120"/>
              <a:ext cx="1897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30" name="Text Box 21"/>
          <p:cNvSpPr/>
          <p:nvPr/>
        </p:nvSpPr>
        <p:spPr>
          <a:xfrm>
            <a:off x="611280" y="3068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безят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2571840" y="60008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Прямая соединительная линия 19"/>
          <p:cNvSpPr/>
          <p:nvPr/>
        </p:nvSpPr>
        <p:spPr>
          <a:xfrm>
            <a:off x="4642560" y="285840"/>
            <a:ext cx="71640" cy="6286320"/>
          </a:xfrm>
          <a:prstGeom prst="line">
            <a:avLst/>
          </a:prstGeom>
          <a:ln w="76320">
            <a:solidFill>
              <a:srgbClr val="8a2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еория Лужи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Приверженец «экономической правды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Отвергает жертвенность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Утверждает беспомощность «единичных щедрот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Считает, что забота о собственном благосостоянии есть забота о «всеобщем преуспеянии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5" name="Picture 9" descr="ЛУЖИН"/>
          <p:cNvPicPr/>
          <p:nvPr/>
        </p:nvPicPr>
        <p:blipFill>
          <a:blip r:embed="rId1"/>
          <a:stretch/>
        </p:blipFill>
        <p:spPr>
          <a:xfrm>
            <a:off x="6907320" y="493560"/>
            <a:ext cx="1682640" cy="4645080"/>
          </a:xfrm>
          <a:prstGeom prst="rect">
            <a:avLst/>
          </a:prstGeom>
          <a:ln w="0">
            <a:noFill/>
          </a:ln>
        </p:spPr>
      </p:pic>
      <p:grpSp>
        <p:nvGrpSpPr>
          <p:cNvPr id="136" name="Управляющая кнопка: домой 4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37" name="Управляющая кнопка: домой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умихин - альтруис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Докажите это примерами из текст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 rot="21443400">
            <a:off x="5319720" y="1615680"/>
            <a:ext cx="2008080" cy="1474920"/>
          </a:xfrm>
          <a:prstGeom prst="rect">
            <a:avLst/>
          </a:prstGeom>
          <a:ln w="0">
            <a:noFill/>
          </a:ln>
        </p:spPr>
      </p:pic>
      <p:grpSp>
        <p:nvGrpSpPr>
          <p:cNvPr id="142" name="Управляющая кнопка: далее 7"/>
          <p:cNvGrpSpPr/>
          <p:nvPr/>
        </p:nvGrpSpPr>
        <p:grpSpPr>
          <a:xfrm>
            <a:off x="7943760" y="5535720"/>
            <a:ext cx="682560" cy="652320"/>
            <a:chOff x="7943760" y="5535720"/>
            <a:chExt cx="682560" cy="652320"/>
          </a:xfrm>
        </p:grpSpPr>
        <p:pic>
          <p:nvPicPr>
            <p:cNvPr id="143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943760" y="5535720"/>
              <a:ext cx="6825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8001000" y="5572080"/>
              <a:ext cx="5716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Лужин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Оба разумно находят жертву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Теоретически обосновывают свой выбор (никчёмная старуха только вредит всем, падшая Соня всё равно когда-нибудь украдёт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Считают возможным решать участь другого человека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Tahoma"/>
              </a:rPr>
              <a:t>Но в Лужине нет альтруистической направленности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3280" y="1268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Разумихин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Рискуя свой жизнью, спасает из огня детей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Содержит больного отца умершего друга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Дважды оставляет деньги Мармеладовым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Пытается спасти падшую девочку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48" name="Управляющая кнопка: домой 5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49" name="Управляющая кнопка: домой 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ебезят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Выступает против таких предрассудков, как «целомудрие и женская стыдливость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Взывает к созданию коммун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Ратует за уничтожение брачных уз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53" name="Управляющая кнопка: домой 4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54" name="Управляющая кнопка: домой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рфирий Петрович выступает против бун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Найдите доказательства в тексте, зачитайте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58" name="Управляющая кнопка: далее 5"/>
          <p:cNvGrpSpPr/>
          <p:nvPr/>
        </p:nvGrpSpPr>
        <p:grpSpPr>
          <a:xfrm>
            <a:off x="7943760" y="5535720"/>
            <a:ext cx="682560" cy="652320"/>
            <a:chOff x="7943760" y="5535720"/>
            <a:chExt cx="682560" cy="652320"/>
          </a:xfrm>
        </p:grpSpPr>
        <p:pic>
          <p:nvPicPr>
            <p:cNvPr id="159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43760" y="5535720"/>
              <a:ext cx="6825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8001000" y="5572080"/>
              <a:ext cx="5716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Лебезятников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Это карикатура на протест Раскольникова. Его воинствующая глупость компрометирует бунтарский путь переустройства мира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орфирий Петрович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bace"/>
                </a:solidFill>
                <a:latin typeface="Tahoma"/>
              </a:rPr>
              <a:t>«Наполеоны» не должны роптать против существующего мироустройств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64" name="Управляющая кнопка: домой 5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65" name="Управляющая кнопка: домой 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2:42:32Z</dcterms:created>
  <dc:creator>LINKIN PARK</dc:creator>
  <dc:description/>
  <dc:language>en-US</dc:language>
  <cp:lastModifiedBy>1</cp:lastModifiedBy>
  <dcterms:modified xsi:type="dcterms:W3CDTF">2011-07-03T11:00:39Z</dcterms:modified>
  <cp:revision>40</cp:revision>
  <dc:subject/>
  <dc:title>     </dc:title>
</cp:coreProperties>
</file>