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5CF-4DC2-4E7C-A367-4148EF58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B76-4B19-4F28-87B1-85359084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2EE-012E-48A4-8201-DDE5632C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1A0-B758-422A-AB16-D3C5682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F20A-9BDA-4769-B683-2D6C668E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72E9-E981-4F46-A103-C4A199F9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3200-2E30-4C0B-A584-E5A71767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D38-43A0-4E9F-8402-7D265C09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2A68-A429-4D52-BE38-ABAA2BFA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34C7-1DE5-48CB-BFE5-8892FBFE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9B17-8467-42E3-8B9D-6B4C36E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769-1A4D-47F0-9C37-4496833A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EC6-B54B-4CDB-9770-1663D0F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99B-393F-4575-B905-C389946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8E8-9657-45D5-AB76-632987A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6868-ADA3-4678-8D3C-DC52B16C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D5C-9BC5-40B3-89CC-1D0547A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BB8-D833-4A19-8E76-E5F5AB2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BF3-2977-48F3-9029-1FF9743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573-BF00-406C-812F-8C9F503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274-33DD-4568-8AFA-30B9D9C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8C3-2369-4D85-9D2A-1BE2575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E14-15A5-4CA8-945E-721D7BE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59B-19C4-4F9A-A551-6D856E0A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F3A1-4796-4041-9253-EFFA36DBC8B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A50D-430B-4E15-AB6A-BC87672BFE1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1" name="Управляющая кнопка: домой 6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72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6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8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79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84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56360" y="463680"/>
            <a:ext cx="1128600" cy="16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ЛУЖИН"/>
          <p:cNvPicPr/>
          <p:nvPr/>
        </p:nvPicPr>
        <p:blipFill>
          <a:blip r:embed="rId2"/>
          <a:stretch/>
        </p:blipFill>
        <p:spPr>
          <a:xfrm>
            <a:off x="298440" y="32868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3"/>
          <a:stretch/>
        </p:blipFill>
        <p:spPr>
          <a:xfrm>
            <a:off x="7620120" y="2206800"/>
            <a:ext cx="1341360" cy="334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4"/>
          <a:stretch/>
        </p:blipFill>
        <p:spPr>
          <a:xfrm>
            <a:off x="7643880" y="3998880"/>
            <a:ext cx="136044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5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857240" y="428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28000" y="1571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AutoShape 14"/>
          <p:cNvGrpSpPr/>
          <p:nvPr/>
        </p:nvGrpSpPr>
        <p:grpSpPr>
          <a:xfrm>
            <a:off x="414360" y="2822400"/>
            <a:ext cx="2103480" cy="609840"/>
            <a:chOff x="414360" y="2822400"/>
            <a:chExt cx="2103480" cy="609840"/>
          </a:xfrm>
        </p:grpSpPr>
        <p:pic>
          <p:nvPicPr>
            <p:cNvPr id="199" name="AutoShape 14" descr=""/>
            <p:cNvPicPr/>
            <p:nvPr/>
          </p:nvPicPr>
          <p:blipFill>
            <a:blip r:embed="rId6"/>
            <a:stretch/>
          </p:blipFill>
          <p:spPr>
            <a:xfrm>
              <a:off x="414360" y="2822400"/>
              <a:ext cx="2103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3800" y="288144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2" name="Прямая со стрелкой 26"/>
          <p:cNvCxnSpPr/>
          <p:nvPr/>
        </p:nvCxnSpPr>
        <p:spPr>
          <a:xfrm flipH="1" flipV="1">
            <a:off x="1958760" y="1485720"/>
            <a:ext cx="1821600" cy="157392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3" name="Прямая со стрелкой 27"/>
          <p:cNvCxnSpPr/>
          <p:nvPr/>
        </p:nvCxnSpPr>
        <p:spPr>
          <a:xfrm flipV="1">
            <a:off x="5697000" y="1285560"/>
            <a:ext cx="1018440" cy="17740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4" name="Прямая со стрелкой 30"/>
          <p:cNvCxnSpPr>
            <a:endCxn id="199" idx="3"/>
          </p:cNvCxnSpPr>
          <p:nvPr/>
        </p:nvCxnSpPr>
        <p:spPr>
          <a:xfrm flipH="1">
            <a:off x="2444040" y="3059280"/>
            <a:ext cx="1335960" cy="496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5" name="Прямая со стрелкой 33"/>
          <p:cNvCxnSpPr/>
          <p:nvPr/>
        </p:nvCxnSpPr>
        <p:spPr>
          <a:xfrm flipH="1">
            <a:off x="2112120" y="3058200"/>
            <a:ext cx="1667880" cy="209736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6" name="Прямая со стрелкой 36"/>
          <p:cNvCxnSpPr/>
          <p:nvPr/>
        </p:nvCxnSpPr>
        <p:spPr>
          <a:xfrm flipV="1">
            <a:off x="5697000" y="3039480"/>
            <a:ext cx="1947240" cy="19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7" name="Прямая со стрелкой 39"/>
          <p:cNvCxnSpPr/>
          <p:nvPr/>
        </p:nvCxnSpPr>
        <p:spPr>
          <a:xfrm>
            <a:off x="5697000" y="3059280"/>
            <a:ext cx="1971000" cy="1954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8" name="Прямая со стрелкой 43"/>
          <p:cNvCxnSpPr/>
          <p:nvPr/>
        </p:nvCxnSpPr>
        <p:spPr>
          <a:xfrm>
            <a:off x="1928520" y="850680"/>
            <a:ext cx="4250520" cy="1332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Прямая со стрелкой 45"/>
          <p:cNvCxnSpPr>
            <a:stCxn id="199" idx="3"/>
          </p:cNvCxnSpPr>
          <p:nvPr/>
        </p:nvCxnSpPr>
        <p:spPr>
          <a:xfrm flipV="1">
            <a:off x="2444760" y="3039480"/>
            <a:ext cx="5199840" cy="6876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Прямая со стрелкой 48"/>
          <p:cNvCxnSpPr/>
          <p:nvPr/>
        </p:nvCxnSpPr>
        <p:spPr>
          <a:xfrm flipV="1">
            <a:off x="2143080" y="5012640"/>
            <a:ext cx="5525280" cy="5940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11" name="Picture 4" descr="расскольников"/>
          <p:cNvPicPr/>
          <p:nvPr/>
        </p:nvPicPr>
        <p:blipFill>
          <a:blip r:embed="rId7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grpSp>
        <p:nvGrpSpPr>
          <p:cNvPr id="212" name="Управляющая кнопка: далее 54"/>
          <p:cNvGrpSpPr/>
          <p:nvPr/>
        </p:nvGrpSpPr>
        <p:grpSpPr>
          <a:xfrm>
            <a:off x="4438800" y="5748480"/>
            <a:ext cx="687240" cy="652320"/>
            <a:chOff x="4438800" y="5748480"/>
            <a:chExt cx="687240" cy="652320"/>
          </a:xfrm>
        </p:grpSpPr>
        <p:pic>
          <p:nvPicPr>
            <p:cNvPr id="213" name="Управляющая кнопка: далее 54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38800" y="5748480"/>
              <a:ext cx="687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00720" y="5786280"/>
              <a:ext cx="571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41680" y="3786120"/>
            <a:ext cx="1963800" cy="546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УЖИН"/>
          <p:cNvPicPr/>
          <p:nvPr/>
        </p:nvPicPr>
        <p:blipFill>
          <a:blip r:embed="rId2"/>
          <a:stretch/>
        </p:blipFill>
        <p:spPr>
          <a:xfrm>
            <a:off x="225360" y="385272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6278400" y="3492360"/>
            <a:ext cx="2713320" cy="46944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2143080" y="264312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4643280" y="2428920"/>
            <a:ext cx="1657440" cy="936720"/>
          </a:xfrm>
          <a:prstGeom prst="wedgeRoundRectCallout">
            <a:avLst>
              <a:gd name="adj1" fmla="val -49384"/>
              <a:gd name="adj2" fmla="val 90601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68600" y="3565440"/>
            <a:ext cx="1968480" cy="547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778800" y="3786120"/>
            <a:ext cx="1828800" cy="45594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928880" y="1428840"/>
            <a:ext cx="2232000" cy="1224000"/>
          </a:xfrm>
          <a:prstGeom prst="wedgeRoundRectCallout">
            <a:avLst>
              <a:gd name="adj1" fmla="val 24851"/>
              <a:gd name="adj2" fmla="val 12629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86200" y="2143080"/>
            <a:ext cx="1871640" cy="1008000"/>
          </a:xfrm>
          <a:prstGeom prst="wedgeRoundRectCallout">
            <a:avLst>
              <a:gd name="adj1" fmla="val -61875"/>
              <a:gd name="adj2" fmla="val 86106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500880" y="1214280"/>
            <a:ext cx="2016000" cy="107964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AutoShape 20"/>
          <p:cNvGrpSpPr/>
          <p:nvPr/>
        </p:nvGrpSpPr>
        <p:grpSpPr>
          <a:xfrm>
            <a:off x="487440" y="5894280"/>
            <a:ext cx="2097000" cy="609840"/>
            <a:chOff x="487440" y="5894280"/>
            <a:chExt cx="2097000" cy="609840"/>
          </a:xfrm>
        </p:grpSpPr>
        <p:pic>
          <p:nvPicPr>
            <p:cNvPr id="231" name="AutoShape 20" descr=""/>
            <p:cNvPicPr/>
            <p:nvPr/>
          </p:nvPicPr>
          <p:blipFill>
            <a:blip r:embed="rId3"/>
            <a:stretch/>
          </p:blipFill>
          <p:spPr>
            <a:xfrm>
              <a:off x="487440" y="5894280"/>
              <a:ext cx="20970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5440" y="5952960"/>
              <a:ext cx="189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СВИДРИГАЙЛОВ"/>
          <p:cNvPicPr/>
          <p:nvPr/>
        </p:nvPicPr>
        <p:blipFill>
          <a:blip r:embed="rId1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ОНЯ"/>
          <p:cNvPicPr/>
          <p:nvPr/>
        </p:nvPicPr>
        <p:blipFill>
          <a:blip r:embed="rId2"/>
          <a:stretch/>
        </p:blipFill>
        <p:spPr>
          <a:xfrm>
            <a:off x="7497720" y="4071960"/>
            <a:ext cx="1365120" cy="406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42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8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9933ff"/>
          </a:solidFill>
          <a:ln w="3816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ротест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ун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71680" y="2500200"/>
            <a:ext cx="2232000" cy="129564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Единично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о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Вселенски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масштабы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AutoShape 15"/>
          <p:cNvSpPr/>
          <p:nvPr/>
        </p:nvSpPr>
        <p:spPr>
          <a:xfrm>
            <a:off x="642960" y="4143240"/>
            <a:ext cx="2448000" cy="1368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Арифметика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6286680" y="4214880"/>
            <a:ext cx="2304720" cy="1224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еория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олкающая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66" name="Прямая со стрелкой 18"/>
          <p:cNvCxnSpPr>
            <a:stCxn id="260" idx="3"/>
            <a:endCxn id="261" idx="1"/>
          </p:cNvCxnSpPr>
          <p:nvPr/>
        </p:nvCxnSpPr>
        <p:spPr>
          <a:xfrm flipV="1">
            <a:off x="2555640" y="1483920"/>
            <a:ext cx="3601080" cy="21816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7" name="Прямая со стрелкой 19"/>
          <p:cNvCxnSpPr/>
          <p:nvPr/>
        </p:nvCxnSpPr>
        <p:spPr>
          <a:xfrm flipV="1">
            <a:off x="2785680" y="2928600"/>
            <a:ext cx="3601080" cy="21672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8" name="Прямая со стрелкой 20"/>
          <p:cNvCxnSpPr>
            <a:endCxn id="265" idx="1"/>
          </p:cNvCxnSpPr>
          <p:nvPr/>
        </p:nvCxnSpPr>
        <p:spPr>
          <a:xfrm flipV="1">
            <a:off x="3143160" y="4827600"/>
            <a:ext cx="3144240" cy="3060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70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67320" y="444600"/>
            <a:ext cx="13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ЛУЖ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6640" y="262080"/>
            <a:ext cx="210996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расскольников"/>
          <p:cNvPicPr/>
          <p:nvPr/>
        </p:nvPicPr>
        <p:blipFill>
          <a:blip r:embed="rId5"/>
          <a:stretch/>
        </p:blipFill>
        <p:spPr>
          <a:xfrm>
            <a:off x="3657600" y="1633680"/>
            <a:ext cx="2103480" cy="290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ПОРФЕРИЙ ПЕТРОВИЧ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65840" y="1407960"/>
            <a:ext cx="1749600" cy="200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СОНЯ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3780000"/>
            <a:ext cx="1963800" cy="240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СВИДРИГАЙЛОВ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90640" y="3760920"/>
            <a:ext cx="2260440" cy="270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8920" y="500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715080" y="500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14384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7" name="AutoShape 20"/>
          <p:cNvGrpSpPr/>
          <p:nvPr/>
        </p:nvGrpSpPr>
        <p:grpSpPr>
          <a:xfrm>
            <a:off x="480960" y="2962440"/>
            <a:ext cx="2060640" cy="609480"/>
            <a:chOff x="480960" y="2962440"/>
            <a:chExt cx="2060640" cy="609480"/>
          </a:xfrm>
        </p:grpSpPr>
        <p:pic>
          <p:nvPicPr>
            <p:cNvPr id="128" name="AutoShap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0960" y="2962440"/>
              <a:ext cx="2060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63400" y="302112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0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71840" y="6000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4642560" y="285840"/>
            <a:ext cx="71640" cy="6286320"/>
          </a:xfrm>
          <a:prstGeom prst="line">
            <a:avLst/>
          </a:prstGeom>
          <a:ln w="7632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9" descr="ЛУЖИН"/>
          <p:cNvPicPr/>
          <p:nvPr/>
        </p:nvPicPr>
        <p:blipFill>
          <a:blip r:embed="rId1"/>
          <a:stretch/>
        </p:blipFill>
        <p:spPr>
          <a:xfrm>
            <a:off x="6907320" y="493560"/>
            <a:ext cx="16826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37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43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48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49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3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54" name="Управляющая кнопка: домой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8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4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65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1-07-03T11:00:39Z</dcterms:modified>
  <cp:revision>40</cp:revision>
  <dc:subject/>
  <dc:title>     </dc:title>
</cp:coreProperties>
</file>